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1B7B2-0216-4F83-B1FC-CAB33E14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7720" y="3944880"/>
            <a:ext cx="8077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CD149-6BFD-4D69-A175-FFAA1B8A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941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7000" y="1676160"/>
            <a:ext cx="3941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7720" y="3944880"/>
            <a:ext cx="3941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7000" y="3944880"/>
            <a:ext cx="3941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47798-EB40-4BD4-A823-221A6EBD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8680" y="167616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0000" y="167616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7720" y="394488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8680" y="394488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0000" y="394488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F009A-743A-440F-824F-4C09C029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F6F8-CA2C-4D2C-8F48-17F23A57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6DBF-46ED-46E1-86CC-54AF15C6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7275-3FFD-412B-BC28-DB4F88C9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9416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7000" y="1676160"/>
            <a:ext cx="39416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C822-C415-4FB1-95D3-4E7006B8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10C2-5EBF-47E6-914B-3DD6A78E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7875-B03F-453F-941F-0C5CCED7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941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7000" y="1676160"/>
            <a:ext cx="39416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7720" y="3944880"/>
            <a:ext cx="3941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CE45-A5FB-459A-91D9-1C261294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A3BC0-B165-42F1-9E47-B6D90E50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9416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77000" y="1676160"/>
            <a:ext cx="3941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77000" y="3944880"/>
            <a:ext cx="3941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2F25-0E1E-4A74-8A94-278A9F57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941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77000" y="1676160"/>
            <a:ext cx="3941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7720" y="3944880"/>
            <a:ext cx="8077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59FB-AF32-4021-9D21-697F4189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37720" y="3944880"/>
            <a:ext cx="8077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F1D4-3B1F-48D3-9EC9-98EB0620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941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77000" y="1676160"/>
            <a:ext cx="3941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7720" y="3944880"/>
            <a:ext cx="3941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977000" y="3944880"/>
            <a:ext cx="3941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7D4B-0451-41B8-A005-86E55915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68680" y="167616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300000" y="167616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37720" y="394488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68680" y="394488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300000" y="394488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0660-59B8-43BE-8D2D-9CF93433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F9BEF-5DDF-4C72-AED6-FC76991D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9416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7000" y="1676160"/>
            <a:ext cx="39416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9AE9D-0E5A-402A-AA21-DF8D711A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15751-BA33-4936-B423-563A18EF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9046A-26CB-4314-BF98-0CA9C67F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941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7000" y="1676160"/>
            <a:ext cx="39416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7720" y="3944880"/>
            <a:ext cx="3941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EEDAF-2B94-4A82-83FD-77E2435F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9416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7000" y="1676160"/>
            <a:ext cx="3941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7000" y="3944880"/>
            <a:ext cx="3941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4B02B-DA74-4B49-8564-FE4FFC79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941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676160"/>
            <a:ext cx="3941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3944880"/>
            <a:ext cx="8077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ECBC0-1A20-446E-B7D9-0F658E5B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6761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6235560"/>
            <a:ext cx="2449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77120" y="6172200"/>
            <a:ext cx="2420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48444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344160" y="6035760"/>
            <a:ext cx="2475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2895480" y="603576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629400" y="6035760"/>
            <a:ext cx="217008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-6480"/>
            <a:ext cx="9142560" cy="6856560"/>
            <a:chOff x="0" y="-6480"/>
            <a:chExt cx="9142560" cy="6856560"/>
          </a:xfrm>
        </p:grpSpPr>
        <p:grpSp>
          <p:nvGrpSpPr>
            <p:cNvPr id="46" name=""/>
            <p:cNvGrpSpPr/>
            <p:nvPr/>
          </p:nvGrpSpPr>
          <p:grpSpPr>
            <a:xfrm>
              <a:off x="52560" y="-6480"/>
              <a:ext cx="520560" cy="6235920"/>
              <a:chOff x="52560" y="-6480"/>
              <a:chExt cx="520560" cy="6235920"/>
            </a:xfrm>
          </p:grpSpPr>
          <p:sp>
            <p:nvSpPr>
              <p:cNvPr id="47" name=""/>
              <p:cNvSpPr/>
              <p:nvPr/>
            </p:nvSpPr>
            <p:spPr>
              <a:xfrm>
                <a:off x="52560" y="174600"/>
                <a:ext cx="168120" cy="6054840"/>
              </a:xfrm>
              <a:prstGeom prst="rect">
                <a:avLst/>
              </a:prstGeom>
              <a:gradFill rotWithShape="0">
                <a:gsLst>
                  <a:gs pos="0">
                    <a:srgbClr val="ff0033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" name=""/>
              <p:cNvGrpSpPr/>
              <p:nvPr/>
            </p:nvGrpSpPr>
            <p:grpSpPr>
              <a:xfrm>
                <a:off x="65160" y="-6480"/>
                <a:ext cx="507960" cy="325440"/>
                <a:chOff x="65160" y="-6480"/>
                <a:chExt cx="507960" cy="32544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5160" y="76320"/>
                  <a:ext cx="179280" cy="169920"/>
                </a:xfrm>
                <a:prstGeom prst="ellipse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165240" y="-6480"/>
                  <a:ext cx="407880" cy="325440"/>
                </a:xfrm>
                <a:prstGeom prst="rightArrow">
                  <a:avLst>
                    <a:gd name="adj1" fmla="val 50000"/>
                    <a:gd name="adj2" fmla="val 62671"/>
                  </a:avLst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" name=""/>
            <p:cNvGrpSpPr/>
            <p:nvPr/>
          </p:nvGrpSpPr>
          <p:grpSpPr>
            <a:xfrm>
              <a:off x="652320" y="69840"/>
              <a:ext cx="8490240" cy="511200"/>
              <a:chOff x="652320" y="69840"/>
              <a:chExt cx="8490240" cy="511200"/>
            </a:xfrm>
          </p:grpSpPr>
          <p:sp>
            <p:nvSpPr>
              <p:cNvPr id="52" name=""/>
              <p:cNvSpPr/>
              <p:nvPr/>
            </p:nvSpPr>
            <p:spPr>
              <a:xfrm>
                <a:off x="652320" y="69840"/>
                <a:ext cx="8344080" cy="1634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00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" name=""/>
              <p:cNvGrpSpPr/>
              <p:nvPr/>
            </p:nvGrpSpPr>
            <p:grpSpPr>
              <a:xfrm>
                <a:off x="8831160" y="71280"/>
                <a:ext cx="311400" cy="509760"/>
                <a:chOff x="8831160" y="71280"/>
                <a:chExt cx="311400" cy="50976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8901000" y="71280"/>
                  <a:ext cx="165240" cy="17964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8831160" y="169920"/>
                  <a:ext cx="311400" cy="411120"/>
                </a:xfrm>
                <a:prstGeom prst="downArrow">
                  <a:avLst>
                    <a:gd name="adj1" fmla="val 50000"/>
                    <a:gd name="adj2" fmla="val 66018"/>
                  </a:avLst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" name=""/>
            <p:cNvGrpSpPr/>
            <p:nvPr/>
          </p:nvGrpSpPr>
          <p:grpSpPr>
            <a:xfrm>
              <a:off x="0" y="6283440"/>
              <a:ext cx="8488440" cy="512640"/>
              <a:chOff x="0" y="6283440"/>
              <a:chExt cx="8488440" cy="512640"/>
            </a:xfrm>
          </p:grpSpPr>
          <p:sp>
            <p:nvSpPr>
              <p:cNvPr id="57" name=""/>
              <p:cNvSpPr/>
              <p:nvPr/>
            </p:nvSpPr>
            <p:spPr>
              <a:xfrm>
                <a:off x="149400" y="6632640"/>
                <a:ext cx="8339040" cy="1634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00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0" y="6283440"/>
                <a:ext cx="309600" cy="511200"/>
                <a:chOff x="0" y="6283440"/>
                <a:chExt cx="309600" cy="51120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76320" y="6613560"/>
                  <a:ext cx="164880" cy="1810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6283440"/>
                  <a:ext cx="309600" cy="411120"/>
                </a:xfrm>
                <a:prstGeom prst="upArrow">
                  <a:avLst>
                    <a:gd name="adj1" fmla="val 50000"/>
                    <a:gd name="adj2" fmla="val 66389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" name=""/>
            <p:cNvGrpSpPr/>
            <p:nvPr/>
          </p:nvGrpSpPr>
          <p:grpSpPr>
            <a:xfrm>
              <a:off x="8569440" y="636480"/>
              <a:ext cx="507960" cy="6213600"/>
              <a:chOff x="8569440" y="636480"/>
              <a:chExt cx="507960" cy="6213600"/>
            </a:xfrm>
          </p:grpSpPr>
          <p:sp>
            <p:nvSpPr>
              <p:cNvPr id="62" name=""/>
              <p:cNvSpPr/>
              <p:nvPr/>
            </p:nvSpPr>
            <p:spPr>
              <a:xfrm>
                <a:off x="8908920" y="636480"/>
                <a:ext cx="168480" cy="60325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8569440" y="6526080"/>
                <a:ext cx="507960" cy="324000"/>
                <a:chOff x="8569440" y="6526080"/>
                <a:chExt cx="507960" cy="3240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8897760" y="6599160"/>
                  <a:ext cx="179640" cy="16848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569440" y="6526080"/>
                  <a:ext cx="407880" cy="324000"/>
                </a:xfrm>
                <a:prstGeom prst="leftArrow">
                  <a:avLst>
                    <a:gd name="adj1" fmla="val 50000"/>
                    <a:gd name="adj2" fmla="val 62938"/>
                  </a:avLst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380880"/>
            <a:ext cx="7726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acticing Falun Go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1447920"/>
            <a:ext cx="5867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eaceful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Min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alth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Bo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nlighten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Spir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splash_FalunDafa" descr=""/>
          <p:cNvPicPr/>
          <p:nvPr/>
        </p:nvPicPr>
        <p:blipFill>
          <a:blip r:embed="rId1"/>
          <a:stretch/>
        </p:blipFill>
        <p:spPr>
          <a:xfrm>
            <a:off x="1295280" y="3352680"/>
            <a:ext cx="6705720" cy="309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C2754-8F7D-4CFE-A39D-0DD3C8C7909A}" type="datetime1">
              <a:rPr lang="en-US"/>
              <a:t>07/31/26</a:t>
            </a:fld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263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obert Nappi, 46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efore Practi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Could not read and write for over 6 years due to brain injury from a car accident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No feeling at his right arm due to the operation done on his brain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Drinking alcohol, smoking cigarette and pots due to mental depress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00987-29C7-4CFD-9077-6EE9994101E7}" type="datetime1">
              <a:rPr lang="en-US"/>
              <a:t>07/31/26</a:t>
            </a:fld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263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Robert Nappi, 46 </a:t>
            </a:r>
            <a:br>
              <a:rPr sz="3800"/>
            </a:br>
            <a:br>
              <a:rPr sz="38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fter Practi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666520"/>
            <a:ext cx="716256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Can read and writ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Regained feeling at his arm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Quit smoking and drinking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Started to live a true lif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AB18B-9EC2-4AE1-B696-776339D7BC9E}" type="datetime1">
              <a:rPr lang="en-US"/>
              <a:t>07/31/26</a:t>
            </a:fld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Joel </a:t>
            </a:r>
            <a:r>
              <a:rPr b="1" lang="en-CA" sz="4200" spc="-1" strike="noStrike">
                <a:solidFill>
                  <a:srgbClr val="ffff00"/>
                </a:solidFill>
                <a:latin typeface="Arial"/>
              </a:rPr>
              <a:t>Chipkar, 32, Canada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362320" y="1219320"/>
          <a:ext cx="405432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219320"/>
                    <a:ext cx="40543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4D205-DA51-4531-A034-A97244A6630E}" type="datetime1">
              <a:rPr lang="en-US"/>
              <a:t>07/31/26</a:t>
            </a:fld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Joel </a:t>
            </a:r>
            <a:r>
              <a:rPr b="1" lang="en-CA" sz="5000" spc="-1" strike="noStrike">
                <a:solidFill>
                  <a:srgbClr val="ffff00"/>
                </a:solidFill>
                <a:latin typeface="Arial"/>
              </a:rPr>
              <a:t>Chipkar, 3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efore Practic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2819160"/>
            <a:ext cx="8381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50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Short-tempered, angry, dissatisfied and abusive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50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A powerful destructive rage inside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50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Alcohol and marijuan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50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Psychological consulting did not help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D4DBB-6EE1-4AEF-A1BB-6EBA1248BAAB}" type="datetime1">
              <a:rPr lang="en-US"/>
              <a:t>07/31/26</a:t>
            </a:fld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263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Joel </a:t>
            </a:r>
            <a:r>
              <a:rPr b="1" lang="en-CA" sz="5000" spc="-1" strike="noStrike">
                <a:solidFill>
                  <a:srgbClr val="ffff00"/>
                </a:solidFill>
                <a:latin typeface="Arial"/>
              </a:rPr>
              <a:t>Chipkar, 32</a:t>
            </a: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After Practic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251424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Peaceful, compassionate, and tolerant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Less agitated and no more angry reaction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A genuine peace and happiness with people around him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AAD9B-32D9-4BB1-AB57-C8918AB3E23B}" type="datetime1">
              <a:rPr lang="en-US"/>
              <a:t>07/31/26</a:t>
            </a:fld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26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A Health Survey in Beijing</a:t>
            </a:r>
            <a:endParaRPr b="0" lang="en-US" sz="4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Total Surveyed:  12,731 practitioner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Gender:               72%      female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28%      male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Age (year):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      67.5%   &gt; 50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30.8%   20-50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1.7%     &lt; 20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Health Status:    73.4% multiple disease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E6850-133B-442C-B6DE-010840E73884}" type="datetime1">
              <a:rPr lang="en-US"/>
              <a:t>07/31/26</a:t>
            </a:fld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Arial"/>
              </a:rPr>
              <a:t>A Health Survey in Beijing </a:t>
            </a: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(cont.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3048120"/>
            <a:ext cx="830592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actice Length:   25%   &lt; 1 ye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3%   1-3 ye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2%   &gt; 3 ye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8F208-917E-43D5-9AAE-75F32EB3004F}" type="datetime1">
              <a:rPr lang="en-US"/>
              <a:t>07/31/26</a:t>
            </a:fld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A Health Survey in Beijing</a:t>
            </a: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 (cont.)</a:t>
            </a:r>
            <a:endParaRPr b="0" lang="en-US" sz="3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853452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Total healing effectiveness:  99%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Complete recovery rate:  58%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Staying energetic:  3.5% </a:t>
            </a:r>
            <a:r>
              <a:rPr b="1" lang="en-US" sz="4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</a:t>
            </a: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   55%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Mental health improvement:  97%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E56E5-0A47-4E12-936C-34FB0E1F2FF5}" type="datetime1">
              <a:rPr lang="en-US"/>
              <a:t>07/31/26</a:t>
            </a:fld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A Health Survey in Beijing</a:t>
            </a: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 (cont.)</a:t>
            </a:r>
            <a:endParaRPr b="0" lang="en-US" sz="3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438280"/>
            <a:ext cx="88390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ff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Saved an average of YMB 3,270 Yuan = $654 = half year of average wage of medical expenses per person each year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ff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Enhanced the labor force in the society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9D975-7D55-4C7C-9E2E-870960D3FD4F}" type="datetime1">
              <a:rPr lang="en-US"/>
              <a:t>07/31/26</a:t>
            </a:fld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Benefits  for Individuals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Families and Society</a:t>
            </a:r>
            <a:endParaRPr b="0" lang="en-US" sz="5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Health improvement 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Peace and harmony in family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Savings on  medical expense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Productivity increas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Moral ascension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Stability of the society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797664-3794-4D48-AC85-53F7C2A275B8}" type="datetime1">
              <a:rPr lang="en-US"/>
              <a:t>07/31/26</a:t>
            </a:fld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"/>
              </a:rPr>
              <a:t>Mind and Body are Connected</a:t>
            </a:r>
            <a:endParaRPr b="0" lang="en-US" sz="4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590920"/>
            <a:ext cx="75438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74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imes New Roman"/>
              </a:rPr>
              <a:t>Mental wellbeing influences physical health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74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imes New Roman"/>
              </a:rPr>
              <a:t>Psychological problems can cause disease even death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470B2-B576-4569-8C48-32B8DC168D87}" type="datetime1">
              <a:rPr lang="en-US"/>
              <a:t>07/31/26</a:t>
            </a:fld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60948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About the Case of 1400 Death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676520"/>
            <a:ext cx="9144000" cy="43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343080">
              <a:lnSpc>
                <a:spcPct val="110000"/>
              </a:lnSpc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accusation needs to be investigated by an independent author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343080">
              <a:lnSpc>
                <a:spcPct val="110000"/>
              </a:lnSpc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suse of drugs causes 190,000 deaths each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343080">
              <a:lnSpc>
                <a:spcPct val="110000"/>
              </a:lnSpc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tural mortality rate is about 0.5% each year, 100,000 died of heart atta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343080">
              <a:lnSpc>
                <a:spcPct val="110000"/>
              </a:lnSpc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rtality rate is 0.0014% = 1400 / 100 million, among relatively aged population:  67.5% &gt; 5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5E994-F30D-4F56-AAFC-ACA1EBA1585B}" type="datetime1">
              <a:rPr lang="en-US"/>
              <a:t>07/31/26</a:t>
            </a:fld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26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00"/>
                </a:solidFill>
                <a:latin typeface="Arial"/>
              </a:rPr>
              <a:t>Q / A</a:t>
            </a:r>
            <a:endParaRPr b="0" lang="en-US" sz="55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20000" t="0" r="28000" b="0"/>
          <a:stretch/>
        </p:blipFill>
        <p:spPr>
          <a:xfrm>
            <a:off x="2666880" y="1219320"/>
            <a:ext cx="399888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559C1-3135-47C1-9C81-FCCF2363F451}" type="datetime1">
              <a:rPr lang="en-US"/>
              <a:t>07/31/26</a:t>
            </a:fld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30556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n Ideal Alternative Approach to Holistic Healt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2666520"/>
            <a:ext cx="75438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five sets of  Falun Gong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ransform the </a:t>
            </a: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bod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inciple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f Truthfulness, Compassion and Tolerance cultivate the </a:t>
            </a: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mind and spiri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E1669-04B8-4E70-B540-B0F0CADC0810}" type="datetime1">
              <a:rPr lang="en-US"/>
              <a:t>07/31/26</a:t>
            </a:fld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tress Can Cause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ysical Problem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33523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99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9900"/>
                </a:solidFill>
                <a:latin typeface="Times New Roman"/>
              </a:rPr>
              <a:t>Mental Stress: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coronary artery disease, high blood pressure, stroke..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235EE-47C1-4E84-8AF2-77E9839E3698}" type="datetime1">
              <a:rPr lang="en-US"/>
              <a:t>07/31/26</a:t>
            </a:fld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Unhealthy Life Style Can Cause Physical Diseases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8195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99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Alcohol Abuse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pression, heart disease, hepatic disease, cancer, 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99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Smoking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ncer, pulmonary disease, heart disease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BF5BF-54C9-4E4C-AAA8-409726DCA55E}" type="datetime1">
              <a:rPr lang="en-US"/>
              <a:t>07/31/26</a:t>
            </a:fld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he Secret to Optimal Health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81080" y="2819520"/>
            <a:ext cx="5486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 Peaceful Mind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 Clean Hear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1FF77-2BF8-4C8A-BFD9-F195F8A9FFD4}" type="datetime1">
              <a:rPr lang="en-US"/>
              <a:t>07/31/26</a:t>
            </a:fld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263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Health Benefit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of Practicing Falun Go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Menta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ress relief, inner peace, harmony, balanc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 unhealthy life sty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Physic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ergetic, health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41322-D912-428B-AC27-007CD8C43FF6}" type="datetime1">
              <a:rPr lang="en-US"/>
              <a:t>07/31/26</a:t>
            </a:fld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alun Gong Emphasizes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rovement of  Mind Na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971800"/>
            <a:ext cx="876312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ff99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9900"/>
                </a:solidFill>
                <a:latin typeface="Times New Roman"/>
              </a:rPr>
              <a:t>Follow  the Universal Principles: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ruthfulness, Compassion, Forbearance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ff99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9900"/>
                </a:solidFill>
                <a:latin typeface="Times New Roman"/>
              </a:rPr>
              <a:t>Give Up Unhealthy Attachments: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Anger, worry, anxiety, fear, addictions...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91A76-B746-475C-82BC-07A421663323}" type="datetime1">
              <a:rPr lang="en-US"/>
              <a:t>07/31/26</a:t>
            </a:fld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30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Robert Nappi, 46, Washington DC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1" name="Nappi01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410440" cy="483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7C326-BE2E-48C8-9815-5716CAD6661B}" type="datetime1">
              <a:rPr lang="en-US"/>
              <a:t>07/31/26</a:t>
            </a:fld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4T13:10:14Z</dcterms:created>
  <dc:creator>Xiaoxu Lin</dc:creator>
  <dc:description/>
  <dc:language>en-US</dc:language>
  <cp:lastModifiedBy>CSC Employee</cp:lastModifiedBy>
  <dcterms:modified xsi:type="dcterms:W3CDTF">2001-02-28T23:15:53Z</dcterms:modified>
  <cp:revision>227</cp:revision>
  <dc:subject/>
  <dc:title>Falun Dafa Feature Story</dc:title>
</cp:coreProperties>
</file>