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4D35-04D6-4AF7-A62B-E67FAF163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9CA-28C0-4B2E-97FA-4DD473D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501-1E52-4593-9B67-37255D20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D24E-EBF6-4553-94C1-1476F095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1BD3-059C-4770-91CC-0D389A28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36-AFBF-4E2C-A137-FC3EF1ED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1F5-F584-4001-8B02-ACCD5C62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C64-B9BB-4C6D-BBFB-4C1617A3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B7C-D655-4EC7-80C1-42078940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30B2-E3F4-4638-9DF8-B14B659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0F9-84E0-4494-B062-FD8B65F2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B48-02D7-4E3A-B2CD-2C74F4F8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8251-1371-40E8-915D-B0D976DC54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10.xml"/><Relationship Id="rId10" Type="http://schemas.openxmlformats.org/officeDocument/2006/relationships/slide" Target="slide10.xml"/><Relationship Id="rId11" Type="http://schemas.openxmlformats.org/officeDocument/2006/relationships/slide" Target="slide10.xml"/><Relationship Id="rId12" Type="http://schemas.openxmlformats.org/officeDocument/2006/relationships/slide" Target="slide10.xml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9907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用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2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Flashge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如何下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2209680"/>
            <a:ext cx="3886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1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用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G2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下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895480"/>
            <a:ext cx="548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2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如何用已下载的网页进行资料下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3657600"/>
            <a:ext cx="6248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3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用拨号上网时需要手动设置代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3880" y="4419720"/>
            <a:ext cx="525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4、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用宽带上网一般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G2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可自动设置代理有时不能时，需要手动设置代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0"/>
            <a:ext cx="1143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33520" y="2438280"/>
            <a:ext cx="83808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011" descr=""/>
          <p:cNvPicPr/>
          <p:nvPr/>
        </p:nvPicPr>
        <p:blipFill>
          <a:blip r:embed="rId2"/>
          <a:srcRect l="4167" t="57781" r="79172" b="37781"/>
          <a:stretch/>
        </p:blipFill>
        <p:spPr>
          <a:xfrm>
            <a:off x="380880" y="4038480"/>
            <a:ext cx="1524240" cy="304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971800" y="3886200"/>
            <a:ext cx="1143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981080" y="4114800"/>
            <a:ext cx="99072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1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648320" y="457200"/>
            <a:ext cx="1828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“连接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124080" y="609480"/>
            <a:ext cx="15242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014" descr=""/>
          <p:cNvPicPr/>
          <p:nvPr/>
        </p:nvPicPr>
        <p:blipFill>
          <a:blip r:embed="rId4"/>
          <a:srcRect l="8334" t="11112" r="50002" b="30000"/>
          <a:stretch/>
        </p:blipFill>
        <p:spPr>
          <a:xfrm>
            <a:off x="762120" y="7621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 flipV="1">
            <a:off x="4038480" y="3962160"/>
            <a:ext cx="9144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3886200"/>
            <a:ext cx="221004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“局网设置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019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76920" y="3352680"/>
            <a:ext cx="3657600" cy="169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在此处输入代理服务器的地址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花园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80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动态： 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8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无界： 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96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用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G2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时用“花园”的代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2362320"/>
            <a:ext cx="2057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将此项打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5334120"/>
            <a:ext cx="266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设置完成后单击左键“确定”键完成代理设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886200" y="2514600"/>
            <a:ext cx="9144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200040" y="3352320"/>
            <a:ext cx="167652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200400" y="4038120"/>
            <a:ext cx="380880" cy="1295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D14565_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用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2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下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685800"/>
            <a:ext cx="1219320" cy="380880"/>
          </a:xfrm>
          <a:prstGeom prst="leftArrow">
            <a:avLst>
              <a:gd name="adj1" fmla="val 50000"/>
              <a:gd name="adj2" fmla="val 800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rot="5389200">
            <a:off x="4000680" y="2781000"/>
            <a:ext cx="1218960" cy="380880"/>
          </a:xfrm>
          <a:prstGeom prst="leftArrow">
            <a:avLst>
              <a:gd name="adj1" fmla="val 50000"/>
              <a:gd name="adj2" fmla="val 8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003" descr=""/>
          <p:cNvPicPr/>
          <p:nvPr/>
        </p:nvPicPr>
        <p:blipFill>
          <a:blip r:embed="rId2"/>
          <a:srcRect l="19167" t="0" r="16669" b="27781"/>
          <a:stretch/>
        </p:blipFill>
        <p:spPr>
          <a:xfrm>
            <a:off x="1719360" y="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1535200">
            <a:off x="5562360" y="1752120"/>
            <a:ext cx="1218960" cy="381240"/>
          </a:xfrm>
          <a:prstGeom prst="leftArrow">
            <a:avLst>
              <a:gd name="adj1" fmla="val 50000"/>
              <a:gd name="adj2" fmla="val 799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004" descr=""/>
          <p:cNvPicPr/>
          <p:nvPr/>
        </p:nvPicPr>
        <p:blipFill>
          <a:blip r:embed="rId3"/>
          <a:srcRect l="19009" t="0" r="17355" b="27274"/>
          <a:stretch/>
        </p:blipFill>
        <p:spPr>
          <a:xfrm>
            <a:off x="1676520" y="0"/>
            <a:ext cx="5867280" cy="5029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rot="19968000">
            <a:off x="5486040" y="1294920"/>
            <a:ext cx="1219320" cy="381240"/>
          </a:xfrm>
          <a:prstGeom prst="leftArrow">
            <a:avLst>
              <a:gd name="adj1" fmla="val 50000"/>
              <a:gd name="adj2" fmla="val 799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007" descr=""/>
          <p:cNvPicPr/>
          <p:nvPr/>
        </p:nvPicPr>
        <p:blipFill>
          <a:blip r:embed="rId4"/>
          <a:stretch/>
        </p:blipFill>
        <p:spPr>
          <a:xfrm>
            <a:off x="6638760" y="6543720"/>
            <a:ext cx="2505240" cy="314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16408800">
            <a:off x="7657920" y="5600160"/>
            <a:ext cx="1219320" cy="380880"/>
          </a:xfrm>
          <a:prstGeom prst="leftArrow">
            <a:avLst>
              <a:gd name="adj1" fmla="val 50000"/>
              <a:gd name="adj2" fmla="val 8003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可见图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0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200400" y="5867280"/>
            <a:ext cx="190512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打勾后通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520" y="6019920"/>
            <a:ext cx="609480" cy="15228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011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4800" y="1219320"/>
            <a:ext cx="304812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代表已连通关闭即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086600" y="304920"/>
            <a:ext cx="1676520" cy="914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rot="5389200">
            <a:off x="4686480" y="2095200"/>
            <a:ext cx="1218960" cy="380880"/>
          </a:xfrm>
          <a:prstGeom prst="leftArrow">
            <a:avLst>
              <a:gd name="adj1" fmla="val 50000"/>
              <a:gd name="adj2" fmla="val 8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009" descr=""/>
          <p:cNvPicPr/>
          <p:nvPr/>
        </p:nvPicPr>
        <p:blipFill>
          <a:blip r:embed="rId1"/>
          <a:srcRect l="19167" t="0" r="17503" b="27781"/>
          <a:stretch/>
        </p:blipFill>
        <p:spPr>
          <a:xfrm>
            <a:off x="1752480" y="0"/>
            <a:ext cx="5791320" cy="4952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rot="5389200">
            <a:off x="5333760" y="2819160"/>
            <a:ext cx="1143000" cy="380880"/>
          </a:xfrm>
          <a:prstGeom prst="leftArrow">
            <a:avLst>
              <a:gd name="adj1" fmla="val 50000"/>
              <a:gd name="adj2" fmla="val 75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双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2362320"/>
            <a:ext cx="1143000" cy="1557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如桌面上又改图标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可在桌面上 打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657600" y="1980720"/>
            <a:ext cx="182880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010" descr=""/>
          <p:cNvPicPr/>
          <p:nvPr/>
        </p:nvPicPr>
        <p:blipFill>
          <a:blip r:embed="rId2"/>
          <a:srcRect l="10003" t="13332" r="30000" b="34449"/>
          <a:stretch/>
        </p:blipFill>
        <p:spPr>
          <a:xfrm>
            <a:off x="914400" y="914400"/>
            <a:ext cx="5486400" cy="3581280"/>
          </a:xfrm>
          <a:prstGeom prst="rect">
            <a:avLst/>
          </a:prstGeom>
          <a:ln w="0">
            <a:noFill/>
          </a:ln>
        </p:spPr>
      </p:pic>
      <p:pic>
        <p:nvPicPr>
          <p:cNvPr id="68" name="01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895480" y="5943600"/>
            <a:ext cx="1143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通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38480" y="6095880"/>
            <a:ext cx="17528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01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895480" y="3276720"/>
            <a:ext cx="563904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打开事先编好的文件夹，将要下载的文件复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034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368400">
            <a:off x="5790960" y="914400"/>
            <a:ext cx="1218960" cy="380880"/>
          </a:xfrm>
          <a:prstGeom prst="leftArrow">
            <a:avLst>
              <a:gd name="adj1" fmla="val 50000"/>
              <a:gd name="adj2" fmla="val 80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单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035" descr=""/>
          <p:cNvPicPr/>
          <p:nvPr/>
        </p:nvPicPr>
        <p:blipFill>
          <a:blip r:embed="rId6"/>
          <a:srcRect l="55837" t="11112" r="12501" b="28893"/>
          <a:stretch/>
        </p:blipFill>
        <p:spPr>
          <a:xfrm>
            <a:off x="5105520" y="762120"/>
            <a:ext cx="289548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036" descr=""/>
          <p:cNvPicPr/>
          <p:nvPr/>
        </p:nvPicPr>
        <p:blipFill>
          <a:blip r:embed="rId7"/>
          <a:srcRect l="55837" t="13332" r="12501" b="83337"/>
          <a:stretch/>
        </p:blipFill>
        <p:spPr>
          <a:xfrm>
            <a:off x="5105520" y="914400"/>
            <a:ext cx="2895480" cy="228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rot="213000">
            <a:off x="7924680" y="833040"/>
            <a:ext cx="1067040" cy="380880"/>
          </a:xfrm>
          <a:prstGeom prst="leftArrow">
            <a:avLst>
              <a:gd name="adj1" fmla="val 50000"/>
              <a:gd name="adj2" fmla="val 700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Times New Roman"/>
              </a:rPr>
              <a:t>单击左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018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019920" y="1981080"/>
            <a:ext cx="914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下载到硬盘的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410080" y="1676520"/>
            <a:ext cx="60984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53280" y="2362320"/>
            <a:ext cx="533520" cy="2654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可更改下载日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7086240" y="990360"/>
            <a:ext cx="1066680" cy="1447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4648320"/>
            <a:ext cx="22096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单击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确定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下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562720" y="4266720"/>
            <a:ext cx="533160" cy="3812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BD14565_" descr="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83059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用已下载的网页进行资料下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523880" y="4572000"/>
            <a:ext cx="762120" cy="304920"/>
          </a:xfrm>
          <a:prstGeom prst="leftArrow">
            <a:avLst>
              <a:gd name="adj1" fmla="val 50000"/>
              <a:gd name="adj2" fmla="val 62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双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0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00400" y="1905120"/>
            <a:ext cx="762120" cy="304560"/>
          </a:xfrm>
          <a:prstGeom prst="leftArrow">
            <a:avLst>
              <a:gd name="adj1" fmla="val 50000"/>
              <a:gd name="adj2" fmla="val 62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00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8120" y="2514600"/>
            <a:ext cx="761760" cy="3808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单 击右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006" descr=""/>
          <p:cNvPicPr/>
          <p:nvPr/>
        </p:nvPicPr>
        <p:blipFill>
          <a:blip r:embed="rId3"/>
          <a:srcRect l="22500" t="40005" r="49168" b="12224"/>
          <a:stretch/>
        </p:blipFill>
        <p:spPr>
          <a:xfrm>
            <a:off x="2133720" y="2666880"/>
            <a:ext cx="2590560" cy="3276720"/>
          </a:xfrm>
          <a:prstGeom prst="rect">
            <a:avLst/>
          </a:prstGeom>
          <a:ln w="0">
            <a:noFill/>
          </a:ln>
        </p:spPr>
      </p:pic>
      <p:pic>
        <p:nvPicPr>
          <p:cNvPr id="93" name="005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029200" y="4038480"/>
            <a:ext cx="16002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单击左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572000" y="4267080"/>
            <a:ext cx="4572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007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657600" y="1219320"/>
            <a:ext cx="914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单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572000" y="1142640"/>
            <a:ext cx="45720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008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267080" y="4419720"/>
            <a:ext cx="236232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单击确定下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34120" y="4190760"/>
            <a:ext cx="3808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905120"/>
            <a:ext cx="1600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请更改到你要下载到的文件目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486400" y="16765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14565_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83059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用拨号上网时需要手动设置代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71600" y="2286000"/>
            <a:ext cx="1143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33520" y="2438280"/>
            <a:ext cx="83808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0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011" descr=""/>
          <p:cNvPicPr/>
          <p:nvPr/>
        </p:nvPicPr>
        <p:blipFill>
          <a:blip r:embed="rId2"/>
          <a:srcRect l="4167" t="57781" r="79172" b="37781"/>
          <a:stretch/>
        </p:blipFill>
        <p:spPr>
          <a:xfrm>
            <a:off x="380880" y="4038480"/>
            <a:ext cx="1524240" cy="3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71800" y="3886200"/>
            <a:ext cx="1143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4114800"/>
            <a:ext cx="990720" cy="76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01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48320" y="457200"/>
            <a:ext cx="18288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“连接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124080" y="609480"/>
            <a:ext cx="1524240" cy="3812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014" descr=""/>
          <p:cNvPicPr/>
          <p:nvPr/>
        </p:nvPicPr>
        <p:blipFill>
          <a:blip r:embed="rId4"/>
          <a:srcRect l="8334" t="11112" r="50002" b="30000"/>
          <a:stretch/>
        </p:blipFill>
        <p:spPr>
          <a:xfrm>
            <a:off x="762120" y="762120"/>
            <a:ext cx="3809880" cy="4038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H="1" flipV="1">
            <a:off x="4191120" y="2514240"/>
            <a:ext cx="9144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2590920"/>
            <a:ext cx="175248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单击左键“设置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015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00600" y="2362320"/>
            <a:ext cx="2057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将此项打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038120" y="2590920"/>
            <a:ext cx="76212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352680"/>
            <a:ext cx="3657600" cy="169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在此处输入代理服务器的地址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花园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80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动态： 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8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无界： 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127.0.0.1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端口：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96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用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G2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时用“花园”的代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200040" y="3352320"/>
            <a:ext cx="167652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200400" y="5028840"/>
            <a:ext cx="53352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33920" y="5638680"/>
            <a:ext cx="26668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、设置完成后单击左键“确定”键完成代理设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14565_" descr="">
            <a:hlinkClick r:id="" action="ppaction://hlinkshowjump?jump=firstslide"/>
          </p:cNvPr>
          <p:cNvPicPr/>
          <p:nvPr/>
        </p:nvPicPr>
        <p:blipFill>
          <a:blip r:embed="rId6"/>
          <a:stretch/>
        </p:blipFill>
        <p:spPr>
          <a:xfrm>
            <a:off x="830592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用宽带上网一般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2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可自动设置代理有时不能时，需要手动设置代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ver</cp:lastModifiedBy>
  <dcterms:modified xsi:type="dcterms:W3CDTF">2004-12-10T02:13:54Z</dcterms:modified>
  <cp:revision>9</cp:revision>
  <dc:subject/>
  <dc:title>PowerPoint 演示文稿</dc:title>
</cp:coreProperties>
</file>