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290-3634-460E-96D6-A37E22D1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595-E6B4-409F-92B6-0A7C7F77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5A3-A2CD-46F0-B8AC-AF4EBE58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164-C239-4747-A398-4D3287B4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929-7A9A-4863-A025-8ADEB5BF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899-5EB8-4D62-9546-6EF11CFE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468-C9B3-4036-9768-8F347A4A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634-4086-4755-A152-22CF10F6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9BA-47A5-40A5-AE2D-53D5473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967-A706-4408-963F-DA041630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6A0-E05C-4B2E-9398-4D19938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6F4-0FAE-40E6-98DC-75B710B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2B77-3828-4D03-ADF0-EC1B972B6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Hp100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激光打印机的灌粉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59092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、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5053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、灌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8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17" descr=""/>
          <p:cNvPicPr/>
          <p:nvPr/>
        </p:nvPicPr>
        <p:blipFill>
          <a:blip r:embed="rId3"/>
          <a:stretch/>
        </p:blipFill>
        <p:spPr>
          <a:xfrm>
            <a:off x="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14800" y="457200"/>
            <a:ext cx="83808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将此侧的螺丝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680" y="1523880"/>
            <a:ext cx="182880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066680"/>
            <a:ext cx="2895840" cy="609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20" descr=""/>
          <p:cNvPicPr/>
          <p:nvPr/>
        </p:nvPicPr>
        <p:blipFill>
          <a:blip r:embed="rId4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952880" y="3886200"/>
            <a:ext cx="2133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将此盖拿下，取下感光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57400" y="4267080"/>
            <a:ext cx="2743200" cy="762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276720"/>
            <a:ext cx="1295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感光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680" y="1676160"/>
            <a:ext cx="152640" cy="1600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2" descr=""/>
          <p:cNvPicPr/>
          <p:nvPr/>
        </p:nvPicPr>
        <p:blipFill>
          <a:blip r:embed="rId2"/>
          <a:stretch/>
        </p:blipFill>
        <p:spPr>
          <a:xfrm>
            <a:off x="1981080" y="45720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47920" y="5257800"/>
            <a:ext cx="26668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从此处将残粉倒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43200" y="3124080"/>
            <a:ext cx="762120" cy="1981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重新曝光%2012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23" descr=""/>
          <p:cNvPicPr/>
          <p:nvPr/>
        </p:nvPicPr>
        <p:blipFill>
          <a:blip r:embed="rId3"/>
          <a:stretch/>
        </p:blipFill>
        <p:spPr>
          <a:xfrm>
            <a:off x="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81280" y="3352680"/>
            <a:ext cx="22100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将此侧打开（此侧无齿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81280"/>
            <a:ext cx="914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磁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14400" y="1447920"/>
            <a:ext cx="0" cy="2133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285640" y="1447560"/>
            <a:ext cx="2057400" cy="1904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91320" y="1066680"/>
            <a:ext cx="2666880" cy="228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105520"/>
            <a:ext cx="579132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：打开后，一定要用手将磁棒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按住直到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灌完粉为止，否则会将粉漏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781680" y="1905120"/>
            <a:ext cx="457200" cy="3200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5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1080" y="4495680"/>
            <a:ext cx="26672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将此盖打开灌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76720" y="2590920"/>
            <a:ext cx="914400" cy="1828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6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86600" y="1523880"/>
            <a:ext cx="533520" cy="2288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两齿轮侧相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495320" y="1294920"/>
            <a:ext cx="259092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114440" y="2666880"/>
            <a:ext cx="297180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5105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将鼓合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4" descr=""/>
          <p:cNvPicPr/>
          <p:nvPr/>
        </p:nvPicPr>
        <p:blipFill>
          <a:blip r:embed="rId2"/>
          <a:stretch/>
        </p:blipFill>
        <p:spPr>
          <a:xfrm>
            <a:off x="2514600" y="857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5029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将销钉回一平即可否则下次不好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080" y="144792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、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5909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、认识打印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172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848720" y="6172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" descr=""/>
          <p:cNvPicPr/>
          <p:nvPr/>
        </p:nvPicPr>
        <p:blipFill>
          <a:blip r:embed="rId2"/>
          <a:stretch/>
        </p:blipFill>
        <p:spPr>
          <a:xfrm>
            <a:off x="1828800" y="55260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47242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打印鼓的全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48720" y="6172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7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16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36576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4" name="22" descr=""/>
          <p:cNvPicPr/>
          <p:nvPr/>
        </p:nvPicPr>
        <p:blipFill>
          <a:blip r:embed="rId4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残粉仓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400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粉仓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109600">
            <a:off x="672840" y="250560"/>
            <a:ext cx="993600" cy="22669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800" y="2209320"/>
            <a:ext cx="990720" cy="8384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971800"/>
            <a:ext cx="1143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感光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0016600">
            <a:off x="1599840" y="0"/>
            <a:ext cx="533520" cy="17524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762120"/>
            <a:ext cx="1143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胶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61960" y="1066680"/>
            <a:ext cx="1523880" cy="228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990720"/>
            <a:ext cx="76212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486400" y="1980720"/>
            <a:ext cx="990720" cy="1600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657600"/>
            <a:ext cx="28958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残粉仓倒残粉的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6172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144792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离打印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66688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倒残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809880"/>
            <a:ext cx="43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3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打开粉仓灌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9528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4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合上打印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6172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1523880"/>
            <a:ext cx="472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、将两侧的销用尖嘴钳拔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04812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、分离打印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6172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5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9" descr=""/>
          <p:cNvPicPr/>
          <p:nvPr/>
        </p:nvPicPr>
        <p:blipFill>
          <a:blip r:embed="rId3"/>
          <a:stretch/>
        </p:blipFill>
        <p:spPr>
          <a:xfrm>
            <a:off x="533412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00200" y="990720"/>
            <a:ext cx="1371600" cy="990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362320" y="1981080"/>
            <a:ext cx="0" cy="1067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048120"/>
            <a:ext cx="6858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3048120"/>
            <a:ext cx="26668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用尖嘴钳将销拔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4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flipV="1">
            <a:off x="6858000" y="2285640"/>
            <a:ext cx="76320" cy="762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5562720"/>
            <a:ext cx="213372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分离的打印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352680" y="5486040"/>
            <a:ext cx="1828800" cy="228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13716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打开残粉仓侧即有感光鼓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2514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将感光鼓取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733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将残粉倒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8:54:21Z</dcterms:created>
  <dc:creator>ww</dc:creator>
  <dc:description/>
  <dc:language>en-US</dc:language>
  <cp:lastModifiedBy>server</cp:lastModifiedBy>
  <dcterms:modified xsi:type="dcterms:W3CDTF">2004-12-10T02:20:55Z</dcterms:modified>
  <cp:revision>2</cp:revision>
  <dc:subject/>
  <dc:title>PowerPoint 演示文稿</dc:title>
</cp:coreProperties>
</file>